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1C0-65CA-493D-A3F6-C717F366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9C5-31F8-47F6-AD83-2920E5A6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79C-8CBF-4A1D-8E4D-92AA33B9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5FE-FAFE-4FF6-945C-4F719FE7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B52-D024-4BDF-9FB0-C98B0219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E92-F6DB-4E0F-80D8-CA40E1E6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9DE-D3FC-46D6-91E9-3D20D8D0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A19-D8BD-4259-935C-F1B7B7B2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FA2-E586-4916-A6B9-99028812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1F7-563E-45F7-9979-43AB0710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060-49E4-419E-A4CD-6727A98C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177-B863-4498-9A54-7D02A71D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A3C1-CD0A-4431-83A0-0EAF8B49F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8537400" cy="457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10666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066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1066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7120" y="1035360"/>
            <a:ext cx="6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70920" y="10353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i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14192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 All Pa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752480"/>
            <a:ext cx="106704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51460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276720"/>
            <a:ext cx="10670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038480"/>
            <a:ext cx="106704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800600"/>
            <a:ext cx="106704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4560" y="358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981080"/>
            <a:ext cx="106704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1981080"/>
            <a:ext cx="106668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1981080"/>
            <a:ext cx="106668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min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762120"/>
            <a:ext cx="853416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1280" y="77544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erno Process Management Tool - “Pass 1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6640" y="1919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39160" y="191844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06720" y="222336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7440" y="2985480"/>
            <a:ext cx="9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40240" y="268056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9520" y="3442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el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05280" y="374724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89480" y="420444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05280" y="450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39160" y="496656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7440" y="527148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39600" y="214704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91840" y="245196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11520" y="245196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3120" y="2451960"/>
            <a:ext cx="110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838080"/>
            <a:ext cx="136440" cy="1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838080"/>
            <a:ext cx="136440" cy="1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58200" y="838080"/>
            <a:ext cx="63360" cy="6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8640" y="1157400"/>
            <a:ext cx="1843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42920" y="1156680"/>
            <a:ext cx="2317680" cy="27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Pass 4 - Product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6T05:08:34Z</dcterms:created>
  <dc:creator>Hien(Henry)Tran</dc:creator>
  <dc:description/>
  <dc:language>en-US</dc:language>
  <cp:lastModifiedBy>Hien(Henry)Tran</cp:lastModifiedBy>
  <dcterms:modified xsi:type="dcterms:W3CDTF">1998-12-08T00:03:30Z</dcterms:modified>
  <cp:revision>10</cp:revision>
  <dc:subject/>
  <dc:title>No Slide Title</dc:title>
</cp:coreProperties>
</file>